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2C50-0E11-4E5B-A8F8-C067B04C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072-5C3F-44BB-B53B-0D80C580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2A6-3CBA-4434-99F9-808A372F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385E-C349-4E43-A2A3-A8654EA3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0AC-24B2-4CC2-9331-8BA412FF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7BB-5E5D-421B-9826-0A4595FA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74C-FF2E-4553-AAEC-203B939C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366-1F73-40AD-9D0D-AC0DE2F4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A59-FF36-4898-B761-BFF20301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3D4-541B-4096-955D-34E4FE4A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AA5-0F0E-46D0-A04B-0933C3D4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D80F-8F84-4C41-8BCC-6F609818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D8BC-550C-467E-A922-69CAD518A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"/>
              </a:rPr>
              <a:t>ACIDI NUCLE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nard MT Condensed"/>
              </a:rPr>
              <a:t>DNA-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"/>
              </a:rPr>
              <a:t>ACIDO DEOSSIRIBONUCLE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acido deossiribonucleico, o DNA è un polimero costituito da unità base chiamate </a:t>
            </a:r>
            <a:r>
              <a:rPr b="1" lang="it-IT" sz="1400" spc="-1" strike="noStrike">
                <a:solidFill>
                  <a:srgbClr val="0033cc"/>
                </a:solidFill>
                <a:latin typeface="Lucida Handwriting"/>
              </a:rPr>
              <a:t>nucleoti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</a:rPr>
              <a:t>Ciascun nucleotide è costituito da tre par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</a:rPr>
              <a:t>Una base azotata tra adenina, timina, citosina, guan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</a:rPr>
              <a:t>Un gruppo fosf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</a:rPr>
              <a:t>Uno zucchero a 5 atomi di carbonio chiamato deossiribos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</a:rPr>
              <a:t>Le basi azotate sono complementari a due a due ed unite dal </a:t>
            </a:r>
            <a:r>
              <a:rPr b="1" lang="it-IT" sz="1400" spc="-1" strike="noStrike">
                <a:solidFill>
                  <a:srgbClr val="0033cc"/>
                </a:solidFill>
                <a:latin typeface="Lucida Handwriting"/>
              </a:rPr>
              <a:t>legame idrogeno</a:t>
            </a:r>
            <a:r>
              <a:rPr b="1" lang="it-IT" sz="14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</a:rPr>
              <a:t>gli abbiname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 Unicode MS"/>
              </a:rPr>
              <a:t>Adenina-tim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 Unicode MS"/>
              </a:rPr>
              <a:t>Guanina-citos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 Unicode MS"/>
              </a:rPr>
              <a:t>La forma caratteristica del DNA è la </a:t>
            </a:r>
            <a:r>
              <a:rPr b="1" lang="it-IT" sz="1400" spc="-1" strike="noStrike">
                <a:solidFill>
                  <a:srgbClr val="ff0000"/>
                </a:solidFill>
                <a:latin typeface="Arial Unicode MS"/>
              </a:rPr>
              <a:t>doppia 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62440" y="2052720"/>
            <a:ext cx="3810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"/>
              </a:rPr>
              <a:t>Acido ribonucle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’acido ribonucleico si differenzia dal DNA p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La base azotata uracile al posto della tim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Lo zucchero ribosio al posto del deossiribos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La forma costituita da un’unica 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"/>
              </a:rPr>
              <a:t>Duplicazione del 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 che la cellula si divida deve avvenire la duplicazione del DNA; questo processo si può riassumere nelle seguenti tapp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doppia elica si srotola e si apre per la rottura dei legami idrog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’enzima DNA polimerasi associa a ciascun filamento del DNA originario nuovi nucleotidi seguendo la complementarietà delle ba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 termine del processo si formeranno due nuovi filamenti di DNA che si riavvolgeranno a doppia elica attorno ai filamenti origin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duplicazione si dice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emiconservativ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 quanto le due nuove molecole di DNA saranno costituite per il 50% da DNA “vecchio” e dal 50% da DNA nuo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43600" y="1600200"/>
            <a:ext cx="3246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5:48:50Z</dcterms:created>
  <dc:creator>-</dc:creator>
  <dc:description/>
  <dc:language>en-US</dc:language>
  <cp:lastModifiedBy>-</cp:lastModifiedBy>
  <dcterms:modified xsi:type="dcterms:W3CDTF">2013-04-10T16:01:13Z</dcterms:modified>
  <cp:revision>2</cp:revision>
  <dc:subject/>
  <dc:title>ACIDI NUCLEICI</dc:title>
</cp:coreProperties>
</file>